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1217-CA51-485A-AEB8-53446FCE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7FD6-06E8-48E7-A9F8-2EC71045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8F8E-8B56-488A-9CC9-ACB935B5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EA5C-E52D-4FCC-AD19-08F65C3D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F568-609C-4A60-8B13-33487A66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DB91-DC57-44BA-A2BE-5AAE426F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D863-236E-4C87-B090-4A34CE8A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CF97-347E-4B00-86B4-D3A9C03D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4C6C-8C0E-4439-A097-1535BA2A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AF1A-554F-403C-8F2D-2538B7E3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3BEB-FE6B-47E4-B6A5-7AB9B4BF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F92A-DB0C-4745-8BF9-50615935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FA15-4BAF-4F8A-9768-DF829F08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C9A1-C19B-469C-A42F-50B4F390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4157-6777-48FD-BACA-F4C99695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4E25-B36A-42F3-B855-AE371CA0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90EB-2557-46B9-AD97-5302BA8F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07041-6F69-444C-A1ED-3C193940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8DB86-5EB1-43EA-8384-5CE8C86E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65035-4BFF-4EA5-85F9-F564D642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41DBE-B239-4C87-B4DB-133998DC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BA793-4D35-4827-96B2-D4E0EC76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8E5A-12DF-4F5C-860A-C3BC2640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ABBEE-5F47-48F2-A43F-09AC75BD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53737-070B-4976-9DC2-5EDA9F25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D932B-8A3D-4EF5-8D47-2E8EF78F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5BD01-D535-474B-84A9-CD878902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FB71F-AB29-403D-9FA4-810E1104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B38E7-6AE9-45A3-98FB-BD3DFBD9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89F88-7F44-4EF4-BDCD-53167A37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38B82-89EC-4A72-ACB1-9133C5B1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D730A-3B1E-4A38-A9D1-6B0ED192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F4EB3-8281-4A61-A297-4A4B4FE6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A98A-8357-4FBF-B00B-E336D89D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B9A8D-0DC1-4E8E-A3A2-692B58C1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EEC77-9BC3-4E4A-9741-076692BF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3B89E-7B37-4ABC-8B2A-57597A40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3BFB4-1A9B-4AD9-8283-7C7ED977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78D64-0B6A-45A1-9FC8-2439405C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39C4D-5276-423A-BCC6-8C7FF48E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E49E3-7D23-44B0-9A96-D028F661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6E537-59DA-4875-8BB3-0E2BF6D2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A4259-3457-42C9-A46A-2AD17EDE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9839-BDC1-41B7-AFBF-603D1EE2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6CCB-533A-4BC8-B65C-C2694889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EF8F-F5F9-4E89-A37B-27A5852E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DBF8-0F13-43D9-862D-58732E35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937-88E5-4AB0-A63A-E3B63238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207C0-A0CC-41ED-B58F-B1F149295D01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5BACF8-8392-4192-8284-AA6F6C1771C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3BA36D-6DBC-4B4C-BB32-E5E80BFF27C3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DC6D5-C029-49AE-AB11-D0E2B57B46D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59D800-CE03-40CC-BD6D-C45890B6A804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553AC7-A312-4354-9C1A-F168A231476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5E732-3755-4D05-BB24-26604D83B7DD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E63527-A40E-4417-961A-61658EBB956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rifting Towards Disun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854-1861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3"/>
          <a:stretch/>
        </p:blipFill>
        <p:spPr>
          <a:xfrm>
            <a:off x="507960" y="1212840"/>
            <a:ext cx="81280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olitical Upheaval, 1860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raham Lincoln won election, did not win popular vo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uth Carolina now has a reason to sece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ublicans won presidential election, but they did NOT control Senate, House of Representatives, or Supreme Cour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4157640" y="4145040"/>
            <a:ext cx="219384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cession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860-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outh Carolin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edes from the Un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ates that follow: Alabama, Mississippi, Florida, Georgia, Tex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reated Confederate States of Amer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ose Jefferson Davis as their presiden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2435400" y="4253040"/>
            <a:ext cx="409248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rittenden Amendment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igned to appease the Sou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vented slavery north of the 36’30 line, but slavery would be protected south of the l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ncoln rejected the amend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rewell to the Unio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ime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oose the six most important events leading to the Civil War (in your opinion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n be any of the events on your ch 18-19 study guide, or any other event you believe was importa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ate a timeline for these ev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Your timeline should include a description of the event, how it led to the Civil War and a pic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You’ll have time Monday to work on this in class as well- due at end of class for a study guide gra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leeding Kans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27584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olitionist groups sent people to live in Kansas (popular sovereignt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wo governments establishe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lavery: Shawnee Mi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ee-soilers: Topek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856- civil war in Kansas started: pro-slavery raiders burned down town of Lawr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2679840" y="4435560"/>
            <a:ext cx="387504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leeding Kans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hn Brown- fanatical abolitionist, murdered 5 pro-slavery me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ivil War in Kansas- continued until nation’s civil w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stroyed property, paralyzed agriculture, cost li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ecompton Constitu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ople not allowed to vote for or against constitution, but for constitution “with slavery” or “with no slavery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ither way, slavery still exists in Kans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ooks/Sumner clas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lection of 1856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mes Buchanan: Democratic candid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pular sovereign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iticized for being a bachelo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hn C. Fremont: Republican candid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gued against extension of slavery into territor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llard Fillmore: Know-Nothing Party candid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mes Buchanan wins ele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northerners voted for him to keep union togeth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w Republicans put up fight against Democrat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lection of 1856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558720" y="1935000"/>
            <a:ext cx="8128080" cy="43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red Scott Ca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red Scott lived w/ master for 5 yrs in Illinois &amp; Wisconsin territor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ed for freedom on basis of residence on free soi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vate property, can be legally held in slave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clared Missouri Compromise unconstitution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3462480" y="4278240"/>
            <a:ext cx="18223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nic of 1857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ue to California gold inflating currency &amp; over speculation of lan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rtherners wanted to give 160 acres of land to pioneers for fre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pposed by eastern industrialists &amp; southern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omestead Act of 1860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made public lands available at 25 cents/ac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toed by Buchan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Tariff of 1857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lowered duties to 20%, blamed for causing pan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ncoln Douglas Deb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natorial Election, 185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raham Lincoln vs. Stephen Dougl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reeport Doctrine-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matter how the Supreme Court ruled, slavery would stay down if the people want it dow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ttle Giant” Douglas won senatorial election, Lincoln won popular vo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ut Lincoln in the spotligh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5653080" y="4751280"/>
            <a:ext cx="268128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lection of 1860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mocratic Party split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uthern Democratic Candidate: John C. Breckenrid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rthern Democratic Candidate: Stephen Dougl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titutional Union Party: John Be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ublican Candidate: Abraham Lincol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ppealed to nearly every part of the n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utherners threatened secession if Lincoln was elec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30T03:06:02Z</dcterms:created>
  <dc:creator>Emily Johnson</dc:creator>
  <dc:description/>
  <dc:language>en-US</dc:language>
  <cp:lastModifiedBy>emily.johnson</cp:lastModifiedBy>
  <dcterms:modified xsi:type="dcterms:W3CDTF">2012-12-03T14:59:41Z</dcterms:modified>
  <cp:revision>5</cp:revision>
  <dc:subject/>
  <dc:title>Chapter 19</dc:title>
</cp:coreProperties>
</file>